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8FB226-D0E6-46E3-BBAC-69DBEA412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64862-419C-41F1-B40A-B632FE9355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45093-288C-4BAC-86C0-18AE14D388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A4579C-9A03-4744-BAA8-D993F1323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A37036-ED3B-42AB-9594-94D54E6D0B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147984-8335-4B23-988A-EED756217F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D91624-62BF-4041-9A59-AF90348B0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7224D4-2BAC-420B-BF55-67E7F18AD6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07372-9413-49B8-83F7-2E11ABAC9F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543DDE-6787-48A8-B601-4C7D51EB07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7D196-594E-41CE-8000-8F6D60DE50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533B03-362D-4098-842D-F19C578A8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2151D5-D91C-4718-AC32-9DEBBDF0B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C10FB7-20EC-49E8-85F2-09F2895C3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29B2E-05E0-46FB-B88E-CC1D5AE2E6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1E1A38-FBCC-4CCE-81AC-D749D476E1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06368-D2C4-4268-9A13-DEBB943DAE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C0834-3E02-4262-A87E-755072749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27963-0565-4331-B3A2-399D8E789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B60F9A-9143-44DB-82E1-CAFE2FFD3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405FF-A807-455A-86CA-A2690E0AF6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1121B-AE8E-4783-8094-73CC81E5B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9191A-DD6C-48ED-8435-F9033E86C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8F06C-4980-4BF9-9183-1E7F83319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77AF-7908-491A-83E5-B0993C941F58}"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3B334-9CEA-4146-83E8-92F97E6DF85D}"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6176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6cbff"/>
                </a:solidFill>
                <a:latin typeface="Tahoma"/>
              </a:rPr>
              <a:t>The First Wave</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2971800"/>
            <a:ext cx="6400800" cy="1752480"/>
          </a:xfrm>
          <a:prstGeom prst="rect">
            <a:avLst/>
          </a:prstGeom>
          <a:noFill/>
          <a:ln w="0">
            <a:noFill/>
          </a:ln>
          <a:effectLst>
            <a:outerShdw dist="12727" dir="270000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cbff"/>
                </a:solidFill>
                <a:latin typeface="Tahoma"/>
              </a:rPr>
              <a:t>Made By: Amber Hiller</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cbff"/>
                </a:solidFill>
                <a:latin typeface="Tahoma"/>
              </a:rPr>
              <a:t>Kierra Whit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cbff"/>
                </a:solidFill>
                <a:latin typeface="Tahoma"/>
              </a:rPr>
              <a:t>Class: Physical Science</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cbff"/>
                </a:solidFill>
                <a:latin typeface="Tahoma"/>
              </a:rPr>
              <a:t>Period: 4th </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6cbff"/>
                </a:solidFill>
                <a:latin typeface="Tahoma"/>
              </a:rPr>
              <a:t>Teacher: Dr.Scear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99ff"/>
                </a:solidFill>
                <a:latin typeface="Tahoma"/>
              </a:rPr>
              <a:t>Special and vulnerable</a:t>
            </a:r>
            <a:endParaRPr b="0" lang="en-US" sz="4400" spc="-1" strike="noStrike">
              <a:solidFill>
                <a:srgbClr val="ffffff"/>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a:bodyPr>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not just bout slowing the emissions of greenhouse gases.</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reatened with the possibility of extinction from rising ocean waters</a:t>
            </a:r>
            <a:endParaRPr b="0" lang="en-US" sz="3200" spc="-1" strike="noStrike">
              <a:solidFill>
                <a:srgbClr val="ffffff"/>
              </a:solidFill>
              <a:latin typeface="Tahoma"/>
            </a:endParaRPr>
          </a:p>
          <a:p>
            <a:pPr marL="343080" indent="-343080">
              <a:lnSpc>
                <a:spcPct val="90000"/>
              </a:lnSpc>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y are like the canary in the coal mine in terms of the dramatic impact of climate change on a whole civilization of peop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and Vulnerable</a:t>
            </a:r>
            <a:endParaRPr b="0" lang="en-US" sz="4400" spc="-1" strike="noStrike">
              <a:solidFill>
                <a:srgbClr val="ffffff"/>
              </a:solidFill>
              <a:latin typeface="Tahoma"/>
            </a:endParaRPr>
          </a:p>
        </p:txBody>
      </p:sp>
      <p:sp>
        <p:nvSpPr>
          <p:cNvPr id="87" name="PlaceHolder 2"/>
          <p:cNvSpPr>
            <a:spLocks noGrp="1"/>
          </p:cNvSpPr>
          <p:nvPr>
            <p:ph/>
          </p:nvPr>
        </p:nvSpPr>
        <p:spPr>
          <a:xfrm>
            <a:off x="685800" y="1981080"/>
            <a:ext cx="7772400" cy="4114800"/>
          </a:xfrm>
          <a:prstGeom prst="rect">
            <a:avLst/>
          </a:prstGeom>
          <a:noFill/>
          <a:ln w="0">
            <a:noFill/>
          </a:ln>
          <a:effectLst>
            <a:outerShdw dist="12727" dir="2700000" blurRad="0" rotWithShape="0">
              <a:srgbClr val="808080">
                <a:alpha val="75000"/>
              </a:srgbClr>
            </a:outerShdw>
          </a:effectLst>
        </p:spPr>
        <p:txBody>
          <a:bodyPr lIns="90000" rIns="90000" tIns="46800" bIns="46800" anchor="t">
            <a:normAutofit fontScale="98000"/>
          </a:bodyPr>
          <a:p>
            <a:pPr marL="335880" indent="-33588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arvard University biological oceanographer James J. McCarthy past president of the American Association for the Advancement of Science. They didn’t cause the problem but they will be among the first to feel it. You might call this a cautionary tale of two countries with vastl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5:05:35Z</dcterms:created>
  <dc:creator>PA Department of Education</dc:creator>
  <dc:description/>
  <dc:language>en-US</dc:language>
  <cp:lastModifiedBy>PA Department of Education</cp:lastModifiedBy>
  <dcterms:modified xsi:type="dcterms:W3CDTF">2009-05-29T14:51:21Z</dcterms:modified>
  <cp:revision>3</cp:revision>
  <dc:subject/>
  <dc:title>The First Wave</dc:title>
</cp:coreProperties>
</file>